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7.wmf" ContentType="image/x-wmf"/>
  <Override PartName="/ppt/media/image15.png" ContentType="image/png"/>
  <Override PartName="/ppt/media/image5.jpeg" ContentType="image/jpeg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8.gif" ContentType="image/gif"/>
  <Override PartName="/ppt/media/image13.gif" ContentType="image/gi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B0E-0B80-4686-8173-9E1DEE43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B01-578D-4B76-B0F6-F51443B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7FF-AA78-44A2-93A4-D4E78E18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B37-D6DE-4BE4-899F-C203AEC0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D89C1-0EEF-4A95-8C0E-B22B5D09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84831-6411-4E8A-B9A2-792B9F3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A552-382C-4139-B8FD-019DDD49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28B63-802A-4C96-B0DB-5C20D55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2B723-25BB-4F1F-97E8-17B0D0E0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55DC-39DC-472E-8500-C4FC6A2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FC42B-DFA6-4110-A158-188408C9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EB1-47E2-4B81-9118-6FF5200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7D719-F87F-4726-9AA1-5DAB5AD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F7280-9CCF-4C17-86FA-1ADBC08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3C96-8726-4E27-A821-42F6BBA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2026-F277-4D0E-84CB-E6B65118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EA52-45CC-4B81-98FF-3C3D8B7F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B60-F833-415B-AAF0-03B4C69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DE9-DC09-421B-B0C1-3BC1770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AF-933A-4D0D-8E89-E270DA3A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979-ED70-437C-AF83-508D61F4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A88-E21E-4E38-AE8F-04976CAB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63D-F6B0-426E-8F90-629E159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B15-3C44-4A13-BA82-60B4448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B21-4BC3-4A75-9C4A-7EF25D1C5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F0E8-B0C5-4574-A9F6-AC9FA385BD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look at angr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ase word: Gl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nonyms: To st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glar.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870120" cy="117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292400" cy="12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use with per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Base Word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bor.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 st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59320" y="4040280"/>
            <a:ext cx="2621160" cy="19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97600" y="1905120"/>
            <a:ext cx="314460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be exited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Happ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eag.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to be sad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84760" y="1905120"/>
            <a:ext cx="1970280" cy="197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05640" y="4181400"/>
            <a:ext cx="193032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SIGN OUT AND 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SYNONYM: TO 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NTONYM: TO NOT CHECK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00840" y="241920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62520" y="4106880"/>
            <a:ext cx="180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t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Ign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chat.ter.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c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t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00840" y="1992240"/>
            <a:ext cx="1333440" cy="180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94400" y="4067280"/>
            <a:ext cx="2146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b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ew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Li.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L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38760" y="2284560"/>
            <a:ext cx="1855800" cy="122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10670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di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g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ad.i.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676840" y="40384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y</cp:lastModifiedBy>
  <dcterms:modified xsi:type="dcterms:W3CDTF">2008-12-17T20:17:17Z</dcterms:modified>
  <cp:revision>25</cp:revision>
  <dc:subject/>
  <dc:title>PowerPoint Presentation</dc:title>
</cp:coreProperties>
</file>